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27A481-13E0-4B64-ACC1-3148FA8A1C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FCDEE8-974D-4FD3-B131-C7E154455E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4409EB-CACD-4901-9F9B-0C25E529EC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23A09E-454B-44DB-A406-E65054D521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9870B8-9819-4D21-B174-90A2DCBDEE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17B3EC-9F36-4F01-82A1-C5F26D6F0F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10F277-7109-4E2E-BE1E-B09A0EED6C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AA34B6-01C0-4594-9C6E-3F20D29030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DF4F34-5BB4-490C-BAB1-E0F94D2183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1F40CE-89A0-4944-A39A-E8FB908C20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9835E4-30EC-4384-BC60-9B65BE9968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7758C0-7866-4BAD-A9DD-2718DD5E03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20B79-EA78-48B1-BAC7-4E557B25164A}" type="slidenum">
              <a:rPr b="0" lang="es-MX"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268280"/>
            <a:ext cx="7772400" cy="360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600" spc="-1" strike="noStrike">
                <a:solidFill>
                  <a:srgbClr val="000000"/>
                </a:solidFill>
                <a:latin typeface="Calibri"/>
              </a:rPr>
              <a:t>Site Characteristics</a:t>
            </a:r>
            <a:endParaRPr b="0" lang="en-US" sz="9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Route Centres</a:t>
            </a:r>
            <a:endParaRPr b="0" lang="en-US" sz="4400" spc="-1" strike="noStrike">
              <a:solidFill>
                <a:srgbClr val="000000"/>
              </a:solidFill>
              <a:latin typeface="Calibri"/>
            </a:endParaRPr>
          </a:p>
        </p:txBody>
      </p:sp>
      <p:sp>
        <p:nvSpPr>
          <p:cNvPr id="43" name=""/>
          <p:cNvSpPr txBox="1"/>
          <p:nvPr/>
        </p:nvSpPr>
        <p:spPr>
          <a:xfrm>
            <a:off x="457200" y="1599840"/>
            <a:ext cx="8229600" cy="5257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oute centres are often called </a:t>
            </a:r>
            <a:r>
              <a:rPr b="1" lang="en-US" sz="2800" spc="-1" strike="noStrike">
                <a:solidFill>
                  <a:srgbClr val="000000"/>
                </a:solidFill>
                <a:latin typeface="Calibri"/>
              </a:rPr>
              <a:t>Nodal Points.</a:t>
            </a: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nywhere where two routes meet has great potential for settlement.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ften these are formed by the meeting of two valleys, but settlement nowadays will grow where two main roads meet.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the UK, York is a good example of a route centre.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irmingham also enjoys a very good location, where many routes join up, and this is one of the reasons for its growth to become one of the largest cities in the UK.</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Bridging Points</a:t>
            </a:r>
            <a:endParaRPr b="0" lang="en-US" sz="4400" spc="-1" strike="noStrike">
              <a:solidFill>
                <a:srgbClr val="000000"/>
              </a:solidFill>
              <a:latin typeface="Calibri"/>
            </a:endParaRPr>
          </a:p>
        </p:txBody>
      </p:sp>
      <p:sp>
        <p:nvSpPr>
          <p:cNvPr id="45" name=""/>
          <p:cNvSpPr txBox="1"/>
          <p:nvPr/>
        </p:nvSpPr>
        <p:spPr>
          <a:xfrm>
            <a:off x="457200" y="1599840"/>
            <a:ext cx="8229600" cy="525780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Just as water is very important for drinking, fishing, irrigation and navigation, so the ability to cross the rivers is also very important.</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any towns and cities have built up at points where it was easiest to cross a large river. </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xeter is one such example, crossing the river Exe.</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However one of the best examples is Paris in France. </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original town was based on the tiny Ile dela Cite, which is an island in the middle of the River Seine. </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s island meant they could build two small bridges across the river rather than one large one.</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Benefits</a:t>
            </a:r>
            <a:endParaRPr b="0" lang="en-US" sz="4400" spc="-1" strike="noStrike">
              <a:solidFill>
                <a:srgbClr val="000000"/>
              </a:solidFill>
              <a:latin typeface="Calibri"/>
            </a:endParaRPr>
          </a:p>
        </p:txBody>
      </p:sp>
      <p:sp>
        <p:nvSpPr>
          <p:cNvPr id="47" name=""/>
          <p:cNvSpPr txBox="1"/>
          <p:nvPr/>
        </p:nvSpPr>
        <p:spPr>
          <a:xfrm>
            <a:off x="457200" y="1599840"/>
            <a:ext cx="822960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new settlement also benefited from all the other advantages associated with being beside a river, as well as becoming a route centre due it being one of the only places to cross the rive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wadays the island has been engulfed by the huge city that Paris has become, however it does still have many bridges going to it and is the point where the huge Notre Dame Cathedral is buil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The Confluence Has 2 Rivers</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Just as two valleys, or roads, make a nodal point for settlement growth, so do two rivers joining.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e such example is found in Khartoum in Sudan, where the Blue and the White Nile mee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Situation</a:t>
            </a:r>
            <a:endParaRPr b="0" lang="en-US" sz="4400" spc="-1" strike="noStrike">
              <a:solidFill>
                <a:srgbClr val="000000"/>
              </a:solidFill>
              <a:latin typeface="Calibri"/>
            </a:endParaRPr>
          </a:p>
        </p:txBody>
      </p:sp>
      <p:sp>
        <p:nvSpPr>
          <p:cNvPr id="51" name=""/>
          <p:cNvSpPr txBox="1"/>
          <p:nvPr/>
        </p:nvSpPr>
        <p:spPr>
          <a:xfrm>
            <a:off x="457200" y="1599840"/>
            <a:ext cx="8229600" cy="525780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a:t>
            </a:r>
            <a:r>
              <a:rPr b="1" lang="en-US" sz="2200" spc="-1" strike="noStrike">
                <a:solidFill>
                  <a:srgbClr val="000000"/>
                </a:solidFill>
                <a:latin typeface="Calibri"/>
              </a:rPr>
              <a:t>situation</a:t>
            </a:r>
            <a:r>
              <a:rPr b="0" lang="en-US" sz="2200" spc="-1" strike="noStrike">
                <a:solidFill>
                  <a:srgbClr val="000000"/>
                </a:solidFill>
                <a:latin typeface="Calibri"/>
              </a:rPr>
              <a:t> of a settlement is the description of the settlement in relation to the other settlements and physical features around it. </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situation of a settlement is the most important in determining whether it grows to become a large city or stays as a small town or village.</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 the UK, Birmingham is an example of a city with an excellent situation. </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t is located central to the country, with excellent links by road to the North and South to London.</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s cities begin to fulfil different functions their importance can increase or decrease. </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ir situation plays an important part in deciding which of these will occur.</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25T23:23:16Z</dcterms:created>
  <dc:creator>Dell_02</dc:creator>
  <dc:description/>
  <dc:language>en-US</dc:language>
  <cp:lastModifiedBy>Dell_02</cp:lastModifiedBy>
  <dcterms:modified xsi:type="dcterms:W3CDTF">2011-01-25T23:36:58Z</dcterms:modified>
  <cp:revision>2</cp:revision>
  <dc:subject/>
  <dc:title>Site Characteristics</dc:title>
</cp:coreProperties>
</file>